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371-7933-4326-8C5D-2257A80A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194-5762-4D7D-A7B1-BFFE38A2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65D-FFC3-4510-8B56-4EB11C32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F0DD-9937-4F13-AC29-74AE10E7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003-61E6-4938-9CDA-EBC2CC9E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EAE-93C3-4CE3-9A12-CA4FDDBB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CF1-62F9-48DA-8D17-F61B7745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277-509A-4204-8556-9A98F4E5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76E2-752E-44EA-81E7-3458BCD2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566-CF7D-4CB2-9322-915FCA4A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6795-F6F3-42DD-852A-240F58FF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1BB-E1D0-4DEE-B8A6-331905EA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400"/>
            </a:gs>
            <a:gs pos="50000">
              <a:srgbClr val="99cc00"/>
            </a:gs>
            <a:gs pos="100000">
              <a:srgbClr val="007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CD14-EDD5-4E46-9CDB-E716F6DE3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400"/>
            </a:gs>
            <a:gs pos="50000">
              <a:srgbClr val="99cc00"/>
            </a:gs>
            <a:gs pos="100000">
              <a:srgbClr val="007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ycling: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s for your personal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Emily St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400"/>
            </a:gs>
            <a:gs pos="50000">
              <a:srgbClr val="99cc00"/>
            </a:gs>
            <a:gs pos="100000">
              <a:srgbClr val="007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what the world        This is what it looks lik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look like.                  because of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48320" y="4572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533520"/>
            <a:ext cx="4038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41911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400"/>
            </a:gs>
            <a:gs pos="50000">
              <a:srgbClr val="99cc00"/>
            </a:gs>
            <a:gs pos="100000">
              <a:srgbClr val="007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Re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2186280" cy="2186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661000" y="1523880"/>
            <a:ext cx="2187720" cy="2187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recycle than you can help start a healthy life style, not for you but for the planet. However if you do the opposite than you could stop the health lifestyle from ever happe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400"/>
            </a:gs>
            <a:gs pos="50000">
              <a:srgbClr val="99cc00"/>
            </a:gs>
            <a:gs pos="100000">
              <a:srgbClr val="007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having trouble starting recycling than think of it as a challenge. If you successfully recycle than you will have finished your challenge and should feel a sense of satisf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400"/>
            </a:gs>
            <a:gs pos="50000">
              <a:srgbClr val="99cc00"/>
            </a:gs>
            <a:gs pos="100000">
              <a:srgbClr val="007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s of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003680" y="1988640"/>
            <a:ext cx="3592080" cy="3111120"/>
            <a:chOff x="1003680" y="1988640"/>
            <a:chExt cx="3592080" cy="3111120"/>
          </a:xfrm>
        </p:grpSpPr>
        <p:sp>
          <p:nvSpPr>
            <p:cNvPr id="56" name="_s11284"/>
            <p:cNvSpPr/>
            <p:nvPr/>
          </p:nvSpPr>
          <p:spPr>
            <a:xfrm>
              <a:off x="1704240" y="1988640"/>
              <a:ext cx="2191680" cy="2191680"/>
            </a:xfrm>
            <a:custGeom>
              <a:avLst/>
              <a:gdLst>
                <a:gd name="textAreaLeft" fmla="*/ 0 w 2191680"/>
                <a:gd name="textAreaRight" fmla="*/ 2192040 w 2191680"/>
                <a:gd name="textAreaTop" fmla="*/ 0 h 2191680"/>
                <a:gd name="textAreaBottom" fmla="*/ 2192040 h 219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1285"/>
            <p:cNvSpPr/>
            <p:nvPr/>
          </p:nvSpPr>
          <p:spPr>
            <a:xfrm rot="7200000">
              <a:off x="2003040" y="2506680"/>
              <a:ext cx="2191320" cy="2192040"/>
            </a:xfrm>
            <a:custGeom>
              <a:avLst/>
              <a:gdLst>
                <a:gd name="textAreaLeft" fmla="*/ 0 w 2191320"/>
                <a:gd name="textAreaRight" fmla="*/ 2191680 w 2191320"/>
                <a:gd name="textAreaTop" fmla="*/ 0 h 2192040"/>
                <a:gd name="textAreaBottom" fmla="*/ 2192400 h 21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1286"/>
            <p:cNvSpPr/>
            <p:nvPr/>
          </p:nvSpPr>
          <p:spPr>
            <a:xfrm rot="14400000">
              <a:off x="1404720" y="2506320"/>
              <a:ext cx="2191320" cy="2192040"/>
            </a:xfrm>
            <a:custGeom>
              <a:avLst/>
              <a:gdLst>
                <a:gd name="textAreaLeft" fmla="*/ 0 w 2191320"/>
                <a:gd name="textAreaRight" fmla="*/ 2191680 w 2191320"/>
                <a:gd name="textAreaTop" fmla="*/ 0 h 2192040"/>
                <a:gd name="textAreaBottom" fmla="*/ 2192400 h 21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1287"/>
            <p:cNvSpPr/>
            <p:nvPr/>
          </p:nvSpPr>
          <p:spPr>
            <a:xfrm>
              <a:off x="3400200" y="2387880"/>
              <a:ext cx="878040" cy="8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dd paper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cyclabl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1288"/>
            <p:cNvSpPr/>
            <p:nvPr/>
          </p:nvSpPr>
          <p:spPr>
            <a:xfrm>
              <a:off x="2360880" y="4190760"/>
              <a:ext cx="878040" cy="8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dd plastic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rocery bag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1289"/>
            <p:cNvSpPr/>
            <p:nvPr/>
          </p:nvSpPr>
          <p:spPr>
            <a:xfrm>
              <a:off x="1319040" y="2390040"/>
              <a:ext cx="878760" cy="8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dd plastic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cyclabl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844520" y="1695600"/>
            <a:ext cx="4102200" cy="3015000"/>
            <a:chOff x="4844520" y="1695600"/>
            <a:chExt cx="4102200" cy="3015000"/>
          </a:xfrm>
        </p:grpSpPr>
        <p:sp>
          <p:nvSpPr>
            <p:cNvPr id="63" name="_s11275"/>
            <p:cNvSpPr/>
            <p:nvPr/>
          </p:nvSpPr>
          <p:spPr>
            <a:xfrm flipV="1">
              <a:off x="6485760" y="1695240"/>
              <a:ext cx="819360" cy="602280"/>
            </a:xfrm>
            <a:custGeom>
              <a:avLst/>
              <a:gdLst>
                <a:gd name="textAreaLeft" fmla="*/ 293760 w 819360"/>
                <a:gd name="textAreaRight" fmla="*/ 525600 w 819360"/>
                <a:gd name="textAreaTop" fmla="*/ 216000 h 602280"/>
                <a:gd name="textAreaBottom" fmla="*/ 386280 h 60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1271"/>
            <p:cNvSpPr/>
            <p:nvPr/>
          </p:nvSpPr>
          <p:spPr>
            <a:xfrm flipV="1">
              <a:off x="6072480" y="2298240"/>
              <a:ext cx="1641240" cy="601200"/>
            </a:xfrm>
            <a:custGeom>
              <a:avLst/>
              <a:gdLst>
                <a:gd name="textAreaLeft" fmla="*/ 360720 w 1641240"/>
                <a:gd name="textAreaRight" fmla="*/ 1280520 w 1641240"/>
                <a:gd name="textAreaTop" fmla="*/ 132120 h 601200"/>
                <a:gd name="textAreaBottom" fmla="*/ 469080 h 60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rdbo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1274"/>
            <p:cNvSpPr/>
            <p:nvPr/>
          </p:nvSpPr>
          <p:spPr>
            <a:xfrm flipV="1">
              <a:off x="5665320" y="2899080"/>
              <a:ext cx="2460600" cy="602280"/>
            </a:xfrm>
            <a:custGeom>
              <a:avLst/>
              <a:gdLst>
                <a:gd name="textAreaLeft" fmla="*/ 426960 w 2460600"/>
                <a:gd name="textAreaRight" fmla="*/ 2033640 w 2460600"/>
                <a:gd name="textAreaTop" fmla="*/ 104400 h 602280"/>
                <a:gd name="textAreaBottom" fmla="*/ 497880 h 60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1272"/>
            <p:cNvSpPr/>
            <p:nvPr/>
          </p:nvSpPr>
          <p:spPr>
            <a:xfrm flipV="1">
              <a:off x="5257800" y="3502440"/>
              <a:ext cx="3281400" cy="606240"/>
            </a:xfrm>
            <a:custGeom>
              <a:avLst/>
              <a:gdLst>
                <a:gd name="textAreaLeft" fmla="*/ 493560 w 3281400"/>
                <a:gd name="textAreaRight" fmla="*/ 2787840 w 3281400"/>
                <a:gd name="textAreaTop" fmla="*/ 91080 h 606240"/>
                <a:gd name="textAreaBottom" fmla="*/ 515160 h 60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p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1273"/>
            <p:cNvSpPr/>
            <p:nvPr/>
          </p:nvSpPr>
          <p:spPr>
            <a:xfrm flipV="1">
              <a:off x="4844520" y="4107960"/>
              <a:ext cx="4102200" cy="602280"/>
            </a:xfrm>
            <a:custGeom>
              <a:avLst/>
              <a:gdLst>
                <a:gd name="textAreaLeft" fmla="*/ 560160 w 4102200"/>
                <a:gd name="textAreaRight" fmla="*/ 3542040 w 4102200"/>
                <a:gd name="textAreaTop" fmla="*/ 82080 h 602280"/>
                <a:gd name="textAreaBottom" fmla="*/ 520200 h 60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stic grocery ba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400"/>
            </a:gs>
            <a:gs pos="50000">
              <a:srgbClr val="99cc00"/>
            </a:gs>
            <a:gs pos="100000">
              <a:srgbClr val="007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ing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219320" y="1295280"/>
          <a:ext cx="6248160" cy="4114800"/>
        </p:xfrm>
        <a:graphic>
          <a:graphicData uri="http://schemas.openxmlformats.org/drawingml/2006/table">
            <a:tbl>
              <a:tblPr/>
              <a:tblGrid>
                <a:gridCol w="3047760"/>
                <a:gridCol w="3200400"/>
              </a:tblGrid>
              <a:tr h="202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 bin= glass recycl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 bin= plastic recycl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y bin= food or wa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 bin= paper recycl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1219320" y="60199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an example of an easy way to keep track of your recycl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400"/>
            </a:gs>
            <a:gs pos="50000">
              <a:srgbClr val="99cc00"/>
            </a:gs>
            <a:gs pos="100000">
              <a:srgbClr val="007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read the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the word and share this power point with everyone you know. Hurry up! This is a very important message. It will help the earth and pollution. Go on! Spread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38760" y="2209680"/>
            <a:ext cx="38480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400"/>
            </a:gs>
            <a:gs pos="50000">
              <a:srgbClr val="99cc00"/>
            </a:gs>
            <a:gs pos="100000">
              <a:srgbClr val="007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Ending Recycl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is a list of many things that are recyc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c Grocery B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9:18:45Z</dcterms:created>
  <dc:creator>17estoner</dc:creator>
  <dc:description/>
  <dc:language>en-US</dc:language>
  <cp:lastModifiedBy>Emily</cp:lastModifiedBy>
  <dcterms:modified xsi:type="dcterms:W3CDTF">2010-01-20T00:17:45Z</dcterms:modified>
  <cp:revision>7</cp:revision>
  <dc:subject/>
  <dc:title>Recycling: Choices for your personal style</dc:title>
</cp:coreProperties>
</file>